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867E-03B7-4F44-BBFB-C701CDB69E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9CDF-5EAC-4F32-8899-88CA3A3FEF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1BA3-72DB-4337-A038-FD889B6EFE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C6A3-F9CF-4506-8F29-672197C804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B210-13DB-4435-B017-D19F85FC3E6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F128-27EA-46EC-9A4A-0228F7BB0C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1F3F-905C-4986-ABF4-0AB3041F79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6088-ADC7-4EA9-BAEB-89EE6D8702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7C01-A8E3-40C7-ACC2-B92225B07A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0B86-8333-4937-AC05-3ADD04AF295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65E7-7DF9-4917-96AC-D950A119B85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6493-AF6B-4DA8-A71E-02CB5BD7E3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71A9-49ED-4D9F-9437-2C1134EB9B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2B19-D058-459B-B594-B952480FBF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1C59-961D-43E3-AB5D-DA5FA1F503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5715-5951-4FBA-95FA-CBF0C066B5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0A8E-7178-4629-A622-2CFEE2C431E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16AC-F88F-4310-B170-4D3936A6C4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7139-D8ED-4C6F-8C80-5C33C26D58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A419-7A32-4C3D-BFBA-7BEBD4A5AF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0EBB-6F95-4384-8DBF-E89EF218B1B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1FA6-F57E-471B-AA30-0F191826D2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3D7D-BC34-4485-B943-68F61C5B44A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4D1A-319E-44A0-9A0D-F6C7EEE6A5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5996-30B2-4E3E-8444-7ED4B4CCEC5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C0C0-9B78-4B56-8A98-65ED0F267B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26AC-C689-45EE-9A6D-B09E07843F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B2E1-A9D2-4E49-A29C-32D46AD092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88FA1-D47E-4274-95EF-609050C5B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F8CCE-7805-4E6D-8751-8B2F04681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21313-FC3E-4BF1-9DD9-4C8873A28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7C844-5305-4049-8129-75569CBC6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334FE-FBA8-484D-B48D-4C0CE6765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7043E-B1C0-4A94-B122-F6D4FE5D2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46616-E3DA-4DCB-81CA-E4D8B4D8A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47184-51FD-463A-96FF-C5BDF55FC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EC6FE-0C43-4385-8EC0-C0622196B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78FC7-0F6F-487E-B5A9-B00A00277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43AFF-3806-4F28-AB0A-17CFE5FD2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BE44E-F9A8-4256-B64B-DE6BE17B1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562E7-B150-47E0-BBF6-18257D9B2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F99D3-38C2-408A-B602-69450E1DE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AEF54-2B36-4723-B114-67606017C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4931B-707B-4D1D-9543-752BB060F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4E007-271A-42FA-84C4-A0504E2DC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C2B8EFF-6799-40F7-9FB7-637622E53B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FF4AC5DD-6FBD-4380-94CB-78BA1C9608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567B1481-72D7-4F7A-8232-7470263E56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044EFAF8-DBB1-4E16-8359-8989847012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367A91A5-FB25-4938-BF4A-68F4CA806B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03933-BCD1-4CF6-BC0F-EDEC9FC43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57129633-7B1A-45C7-A879-B36301DE68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A2BF55FF-0A04-49E7-AB68-E2471384275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349EC72C-8BF2-4ECC-8F3C-03D80D68CF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DBC137E6-80FF-46AC-9107-EEF1DEA66E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80B46A72-F448-4672-A30E-3E191CDD0D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CA9DE8E0-679E-4CE8-A7BE-AB9109BCF0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67F2E752-3E8C-4E4D-B372-8AE7D359DE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F6F63DE-BCC8-4586-9D02-1E1B7EF18B3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545A252-ACC5-4DA6-8BFC-3206EBFB33D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5F4099A-408A-4782-B42A-551FD0A002B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2294F-8A96-403E-8C3A-86932C4CE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8241234-FF61-46DA-9DAE-F5FACABF412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39E0252-B5C8-400A-85A9-B872C55501D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09BF62F-8D4B-4867-BB70-45DA64C9C54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57B8403-0241-44F6-845E-2E9726FD40F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6FBD32-F432-4EAE-90AB-F60136E345D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D478F72-DBFC-4904-97BF-94F6399C953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A390F15-DE93-434F-A7BE-B1C63EED28F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8410F77-2358-4818-8E52-106074DAD5D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56D3153-0EBD-4BC5-879E-D15D398567E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E47DF6D-779C-46EA-9B10-1EB2A100B3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ED332-1C7D-44F0-978B-F0FE391F9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F9DD3EB-9A69-46DE-909F-A46BF831E9D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BB08745-1822-499F-B007-6DDC547C47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DE07563-73E2-43E0-893F-D60AC6452C7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9487009-B69A-4AB6-AC54-CF0979494E9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4C99D2C-7AA7-421F-B0D3-23ACD9AAF59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1B05419-FC24-4612-84A9-23C866E73F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C878E3D-061C-49A7-B2AC-16E0A1EC18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4D7A95B-C186-4486-B247-EE96446D59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B6DEB99-7F8F-4204-8D07-6A7AF017E14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A663CF2-C6D3-4BF7-BB23-30FB1A09D97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FB19E-F74C-43F2-B82E-B1834A80E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2AA7044-30B3-4528-BC18-F69D229DF20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64AC1-16B2-4877-B14A-C4C768696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90513-04FA-4DBE-A636-DB8F6F756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65813-18CD-462A-9189-0B699BACF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D62B-F805-44B8-A672-A6695BF66BE7}"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A830-94C7-46B7-AF6D-94E97EBA619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DF47-36DF-4B57-89BA-7F8B8AE5AD38}" type="datetime">
              <a:rPr b="0" lang="en-US" sz="1200" spc="-1" strike="noStrike">
                <a:solidFill>
                  <a:srgbClr val="ffffff"/>
                </a:solidFill>
                <a:latin typeface="Times New Roman"/>
              </a:rPr>
              <a:t>07/31/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B56F-A320-4F10-8467-E2D14D6BA1C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B327-AC34-41F4-BF1B-904C13EF95C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BBDE-67DD-43FD-92E7-90D58C53404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0899-A5EF-4AFE-A668-66BBE04700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30C2-79A8-4CAE-A7CB-DC5B851534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1D1E-F320-4ED2-846E-9D4B1EA10A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0FF2-ABEA-4763-8A99-6C21450E2A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EAA1-2A9D-45EA-B526-3AB4C1078C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4373-77EB-48B0-8250-5EBEB02423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5C4E-F2FC-4A83-8A00-F07F349A5E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9A6E-2A07-424A-AC94-979AD08E2B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